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004-5A5F-4B13-AD2F-1E1AE654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B31-20AF-49CE-A021-63FE1FA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4BF-11B7-4AEC-A647-E7862E37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460-1D24-4429-977D-E9712ADC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178-DD10-4B05-9BE2-59002FFA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E37-0A9F-4564-A767-4B303491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2EF-5743-44B4-95BA-A198A4B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BB8D-3CE9-4C14-B465-6590A667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D295-143A-44D0-8155-8F811B79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898B-E675-4B42-9B95-3FA15E0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CE4-003F-471F-9ED4-37C5520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407-8C5F-4982-9477-DC7446C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829D-03AD-4290-8DD0-A576BBA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B7AE-E73A-4B99-B8AD-765B37C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A71-5A49-4668-92E4-EE58085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8A50-F36A-4009-9E8C-F32BE26A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6D55-7047-4F30-9775-AC844FF6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6272-DE87-403C-BA3F-76AA6792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93B0-A6CA-4E16-A4EA-DCA282E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FDEC-9FA1-4381-9A68-FF0C2E13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CD98-5007-4933-9554-2AB4BC3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A479-A646-4910-A606-363CBB85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2B6-579F-4AB8-A8E2-82BC984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2447-689D-451C-9636-D94E9FC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E91C-31E0-4CDE-B402-1F36BB7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F680-7EAF-4BF4-9DFA-B58A137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2F7B-C94A-4A97-9CE8-3075151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CF0D-5452-4591-AA85-2425EB5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FF26F-5C19-4D0F-A8BE-C4705631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BF02-FE33-44CA-8611-B779681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0246-C6A4-4566-BFD7-C442359A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087A-7C9B-4EC1-A01D-3EB92F41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5E7C-D95D-4945-9C24-296B06D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D64-DA70-42C6-BF5E-3745A8B9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CAFB-D012-4185-99CA-17F29B55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28B0-BC09-404A-A8F4-362A580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8252-652D-4566-9408-71DA4CB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CC12-7020-48CE-B5C6-D4F898B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3E11-ACE7-4272-85A8-6B5B0DF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8281-D08D-4C62-AB3B-2B746E8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37A6-590D-43F0-856E-0F69F46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9F2E-A960-47A3-B09F-D8055615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2C5B-2279-4316-8C3B-32AE5D35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27220-00A9-4405-A27E-15C83FD4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D6F-B556-409C-A18B-5AE50BD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3151-B897-4415-969F-260FA6E1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A6031-5AB4-4FFD-9D80-69203B0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A8FF-50D6-4C15-AC71-E188932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9178-DDE2-4C71-9D71-9757C47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338D-B081-49E3-A665-200F1DE2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27DA-503E-4949-8B33-C8488DA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E941-63CA-405D-BECA-3D1A41C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D6FC-B9C4-48DF-9019-0AD4B3C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DBD0-9FAC-4F09-97CC-FEBA6224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97B4-4F41-47BB-B189-BF1B84F4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FFD-E611-4CAF-890F-45E8B6D2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3D82-F4DE-42E0-86D6-EBF4746A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52933-0830-4AD3-85D1-1021A3E7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5A30-F3F4-4148-9677-211D1743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7C03-9B84-401B-ACDE-96322AF8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9575-0B20-45B3-A07B-4E3CC50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E6745-1609-4C28-A4C7-6BEC55D2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548BA-43D2-4E17-A391-C897FDD2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FA267-CE0F-4B45-86B7-E023AEC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4ADD-4BFD-4759-BEAF-19D963F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4FDF7-B51C-4728-8767-BC15FD2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75D-686F-4B2E-B8BE-B1CDA51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0E3A-5D7D-403A-924A-578FA7E1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E0B3-271A-4A24-9ECB-A0242A4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602A-FFAF-4997-9FBE-3FD41D14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FBDC0-C6CB-409D-98C6-154D0A7A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5B8D-1A52-40A0-9A20-E0CBE3C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F46B-9D6A-4AFE-9129-CCA0B68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000E-06F1-4E52-B532-58457D89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B99F2-0963-49F7-A98F-7077B16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8898-CF43-4932-B034-A73AB06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B1C3-5195-443C-A8BB-D5208D2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774-EE19-427C-B3C3-07B7FD7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792D-AFFE-4640-AF86-BD7A483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BEF0-E5CB-41AA-8A97-DA658F2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12ED-CC3A-4364-8610-E05261E0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366C-9F96-48D3-AF70-06DDFFF8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BD4C4-A5D9-4721-9E92-A831B8BE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2102D-B0E1-4ECD-A825-24616BA7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5346A-B26A-43FC-88B6-92E319C4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82733-A45E-402B-A6A3-EB45E75A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FA78-39F1-4588-976C-42D04C94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BB16-7403-42F0-AC5B-C853F15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9B5-24BA-4D14-B615-550F327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451B-D3B1-46F8-83B5-71946149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2241-0963-4FB0-B281-2180E11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9B54-A9CA-4649-82F9-ECFF1EC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13FE3-9FB4-4D95-8481-55DC047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4A822-BDDC-414A-8501-FC185237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8BCC7-B36C-4E5A-9DFF-209C5129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7907-D50F-408D-8A69-E12F2BA0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639-02D7-4307-ABF3-5331C13E6B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258F-E83A-453A-9284-6F221AD72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820-15AA-49DA-BCB5-11C9991A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C63-48A3-42A3-956C-93474A17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277-067E-45F2-819E-BC729A9FF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34B3-F644-4E58-9808-E1178E52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383-3F79-4CFE-A653-F600DC2C1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1BE-F5C1-4D2C-B603-44BF714E9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vanraalte.wikispaces.com/home" TargetMode="External"/><Relationship Id="rId3" Type="http://schemas.openxmlformats.org/officeDocument/2006/relationships/hyperlink" Target="http://vanraalte.wikispaces.com/home" TargetMode="External"/><Relationship Id="rId4" Type="http://schemas.openxmlformats.org/officeDocument/2006/relationships/hyperlink" Target="http://vanraalte.wikispaces.com/home" TargetMode="External"/><Relationship Id="rId5" Type="http://schemas.openxmlformats.org/officeDocument/2006/relationships/hyperlink" Target="http://westwood.wikispaces.com/" TargetMode="External"/><Relationship Id="rId6" Type="http://schemas.openxmlformats.org/officeDocument/2006/relationships/hyperlink" Target="http://westwood.wikispaces.com/" TargetMode="External"/><Relationship Id="rId7" Type="http://schemas.openxmlformats.org/officeDocument/2006/relationships/hyperlink" Target="http://burell9english.wikispaces.com/" TargetMode="External"/><Relationship Id="rId8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29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s vs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 archive of previous posts in wikis, but change history is recorde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s are quicker to change, adaptab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re visible student particip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 Re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spaces.com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(ad/links free for educatio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Sample Class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r. van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Raalte'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 Mat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Westwood Schoo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6"/>
              </a:rPr>
              <a:t>Flat Classroom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7"/>
              </a:rPr>
              <a:t>1001 Flat World Tales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Your time…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On the class wiki resource we have set up, you can click on the WIKI link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heck out a few of the wiki 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Share, brainstorm, idea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ment in your blo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Paper du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Assignment due Apri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 7 &amp; 8 (Pages 101-1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What is this new world anyway? A brief history of this new web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applications of wiki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wikis to share information with student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writing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projec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Wik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iki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29T00:32:36Z</dcterms:modified>
  <cp:revision>47</cp:revision>
  <dc:subject/>
  <dc:title>Welcome to  ED3862</dc:title>
</cp:coreProperties>
</file>